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07CB-6067-435F-981C-CF85A554A6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52560" y="685800"/>
            <a:ext cx="495288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remember  that the significance of the criteria can differ depending on the goals and stage of priorit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52560" y="685800"/>
            <a:ext cx="495288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CRITERIA HAVE TO INCLUDE THE FOLLOWING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real necessity in the water supply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ded investments should have the most social-economical bene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ustainability of the sett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nto account the technical feasibility and the economy of the suggested investments and exploitation expens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52560" y="685800"/>
            <a:ext cx="495288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d on said above it is recommended to use the next 4 main crite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 of population and risk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nd economical pro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ility of th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possi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settlements is recommended to do by ph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52560" y="685800"/>
            <a:ext cx="495288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ing of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ain criteria and subcriteria on different stages have different values to the prioritization goals, it is recommended to use the specific “ Weighting” of each criteria on each stage of priorit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52560" y="685800"/>
            <a:ext cx="495288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50 of the most prioritized settlements there were chosen 6 projects. For each one there were done technical and economical and financial and sociological rese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results of this feasibility study The Kuwait Fund For Arab Economic Development loan was given to the development of all 6 settlements. It is implemented successfu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45156-D1DD-45EC-9302-7D125A665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9C0A8-9CDF-4B22-8F79-F186341D4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47D8E-A281-40ED-959A-4E01F0071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49060-B19A-4F9C-9545-7BEE200D0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83E7A-2388-40D8-8021-0E1D896A3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5FF2A-730F-452B-A9D3-8CE326658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92507-8448-4165-816E-44B173237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E98EC-29A0-4EC5-A6FE-D0FA9EBF4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DCE40-744E-4F18-A30D-7B9190D3D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D9E35-2E5D-477F-807E-AD1DB739D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E6E24-092F-4A9E-8CBD-35269C8DF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4F1D5-ED7E-430C-9B40-9C6A3A013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48F13-1B83-4E6E-8980-DBD30A3CA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AE898-A54B-476D-BD8D-D34F5BD11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0CB2C-E87E-45EC-B397-0747E6F7C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C79BB-39F6-4843-8465-193C010AA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75899-0FF1-4228-85B1-340908C34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A974F3-760E-4453-922A-685314CC61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2"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C8C25-E5A9-4507-93A8-01C618063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4"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ADB54-E63B-4D8B-A763-7B023DFAC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7"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B3C3A-926D-4B7A-89E0-0FD89320B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F8A83-D187-4BD9-8C1F-170E62E19E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8C7D-D4CC-44A4-B9A4-00B05CA49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71D000-BEF4-4807-A4F7-B20A81692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2"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976B6-0602-41D3-BC42-F1381D3F9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31180-025C-4997-82DF-AB56A7AEB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9"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0"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90B99-3BA8-4016-8AFE-F2254962E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3"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4"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42743D-A73B-4B07-B20A-373813072A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8"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9"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2CA073-EC56-4500-BF37-F111F1650E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2"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3"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4"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5"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6"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636E8F-C3E0-4D5B-965C-74BBAFBBEC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DC61E69-B3F7-43E9-A3E5-7C17E9C7E0C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4"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C1BE4F-A93A-4505-A5EC-329C79D0D8B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AEB819-F6DD-4BBC-880E-17B62B969D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45383-C5CF-4331-AF27-14215740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1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F7F40F-EB31-4AE0-9124-B89DEF81354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7C287E-02ED-47F8-87A9-D6E88417267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1756152-0B43-4C91-9726-F23E0DC7FF3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606B48-F2D4-4078-BC1D-12EBA557A7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8"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9"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6FBB8B-22E1-4B47-B22A-7D527C2B78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2"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3"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6E4850-82A8-469B-9A2E-617D4A5C98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5"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6"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503150-299D-478B-AF6C-EFB8BED8FB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63DE3A9-B3CB-46BF-9B00-EF505D97E8B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3"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4"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5"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6EEB744-EB13-41C6-A160-90AD3955940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241C4-E47F-446D-9201-3E5A59AD3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382FC-9C5B-4C7A-9B31-396CAFD3E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0EDD-0EA0-4F97-B6AD-2270AC1B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98E7C-4AA3-405A-AE3C-AA51E7FF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CC96E-458E-4B4A-9F63-3117F5C0A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3440" y="-117360"/>
            <a:ext cx="2991960" cy="6973920"/>
            <a:chOff x="-73440" y="-117360"/>
            <a:chExt cx="2991960" cy="6973920"/>
          </a:xfrm>
        </p:grpSpPr>
        <p:sp>
          <p:nvSpPr>
            <p:cNvPr id="1" name=""/>
            <p:cNvSpPr/>
            <p:nvPr/>
          </p:nvSpPr>
          <p:spPr>
            <a:xfrm>
              <a:off x="-7920" y="5178600"/>
              <a:ext cx="81108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84240" y="3925080"/>
              <a:ext cx="943920" cy="723600"/>
              <a:chOff x="84240" y="3925080"/>
              <a:chExt cx="943920" cy="723600"/>
            </a:xfrm>
          </p:grpSpPr>
          <p:sp>
            <p:nvSpPr>
              <p:cNvPr id="3" name=""/>
              <p:cNvSpPr/>
              <p:nvPr/>
            </p:nvSpPr>
            <p:spPr>
              <a:xfrm flipH="1" rot="14965200">
                <a:off x="144360" y="3938400"/>
                <a:ext cx="227160" cy="286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311400" y="4305960"/>
                <a:ext cx="388440" cy="2379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96600" y="4142520"/>
                <a:ext cx="406080" cy="120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5160" y="2755800"/>
              <a:ext cx="122040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800" y="2585160"/>
              <a:ext cx="2916720" cy="3150720"/>
              <a:chOff x="1800" y="2585160"/>
              <a:chExt cx="2916720" cy="3150720"/>
            </a:xfrm>
          </p:grpSpPr>
          <p:sp>
            <p:nvSpPr>
              <p:cNvPr id="8" name=""/>
              <p:cNvSpPr/>
              <p:nvPr/>
            </p:nvSpPr>
            <p:spPr>
              <a:xfrm flipH="1" rot="789600">
                <a:off x="409680" y="2692080"/>
                <a:ext cx="105588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5840" y="2832120"/>
                <a:ext cx="88380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81600" y="3041640"/>
                <a:ext cx="313560" cy="517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955080" y="3788640"/>
                <a:ext cx="286920" cy="3078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73000" y="3848040"/>
                <a:ext cx="709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936360" y="4032000"/>
                <a:ext cx="1982160" cy="1703880"/>
                <a:chOff x="936360" y="4032000"/>
                <a:chExt cx="1982160" cy="1703880"/>
              </a:xfrm>
            </p:grpSpPr>
            <p:sp>
              <p:nvSpPr>
                <p:cNvPr id="14" name=""/>
                <p:cNvSpPr/>
                <p:nvPr/>
              </p:nvSpPr>
              <p:spPr>
                <a:xfrm flipH="1" rot="7102800">
                  <a:off x="1390320" y="3895200"/>
                  <a:ext cx="473760" cy="13158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536560" y="4963680"/>
                  <a:ext cx="109800" cy="5403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731680" y="5581440"/>
                  <a:ext cx="199080" cy="9036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43560" bIns="43560" anchor="t">
                  <a:noAutofit/>
                </a:bodyPr>
                <a:p>
                  <a:endParaRPr b="0" lang="en-US" sz="1800" spc="-1" strike="noStrike">
                    <a:solidFill>
                      <a:srgbClr val="006699"/>
                    </a:solidFill>
                    <a:latin typeface="Arial"/>
                  </a:endParaRPr>
                </a:p>
              </p:txBody>
            </p:sp>
          </p:grpSp>
        </p:grpSp>
        <p:grpSp>
          <p:nvGrpSpPr>
            <p:cNvPr id="17" name=""/>
            <p:cNvGrpSpPr/>
            <p:nvPr/>
          </p:nvGrpSpPr>
          <p:grpSpPr>
            <a:xfrm>
              <a:off x="511560" y="6175080"/>
              <a:ext cx="844560" cy="637920"/>
              <a:chOff x="511560" y="6175080"/>
              <a:chExt cx="844560" cy="637920"/>
            </a:xfrm>
          </p:grpSpPr>
          <p:sp>
            <p:nvSpPr>
              <p:cNvPr id="18" name=""/>
              <p:cNvSpPr/>
              <p:nvPr/>
            </p:nvSpPr>
            <p:spPr>
              <a:xfrm rot="6248400">
                <a:off x="1100880" y="6166800"/>
                <a:ext cx="196560" cy="273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841680" y="6508080"/>
                <a:ext cx="336600" cy="227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434160" y="6401160"/>
                <a:ext cx="352080" cy="115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45240" y="1772280"/>
              <a:ext cx="849600" cy="696600"/>
              <a:chOff x="345240" y="1772280"/>
              <a:chExt cx="849600" cy="696600"/>
            </a:xfrm>
          </p:grpSpPr>
          <p:sp>
            <p:nvSpPr>
              <p:cNvPr id="22" name=""/>
              <p:cNvSpPr/>
              <p:nvPr/>
            </p:nvSpPr>
            <p:spPr>
              <a:xfrm rot="5002800">
                <a:off x="919440" y="1732320"/>
                <a:ext cx="206640" cy="322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64640" y="2143800"/>
                <a:ext cx="353880" cy="2678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49120" y="2204280"/>
                <a:ext cx="370080" cy="136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401480" y="0"/>
              <a:ext cx="592200" cy="581400"/>
              <a:chOff x="1401480" y="0"/>
              <a:chExt cx="592200" cy="581400"/>
            </a:xfrm>
          </p:grpSpPr>
          <p:sp>
            <p:nvSpPr>
              <p:cNvPr id="26" name=""/>
              <p:cNvSpPr/>
              <p:nvPr/>
            </p:nvSpPr>
            <p:spPr>
              <a:xfrm>
                <a:off x="1401480" y="0"/>
                <a:ext cx="1875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672560" y="103320"/>
                <a:ext cx="32112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607760" y="489240"/>
                <a:ext cx="33552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50120" y="149400"/>
              <a:ext cx="12013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416520" y="5403600"/>
              <a:ext cx="22680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57560" y="5702040"/>
              <a:ext cx="1134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9440" y="6524640"/>
              <a:ext cx="20268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360" y="6299280"/>
              <a:ext cx="22320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360" y="6269040"/>
              <a:ext cx="8064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360" y="5141880"/>
              <a:ext cx="85428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4920" y="650520"/>
              <a:ext cx="591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416160" y="1199880"/>
              <a:ext cx="28728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86760" y="453960"/>
              <a:ext cx="25236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406080" y="1144440"/>
              <a:ext cx="10620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1005840" y="739440"/>
              <a:ext cx="12348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360" y="1406520"/>
              <a:ext cx="61884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2840"/>
              <a:ext cx="138204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95000" y="1600200"/>
            <a:ext cx="89154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95360" y="624348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838D-2317-4104-95EE-0C2385717CFB}"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16920" y="0"/>
            <a:ext cx="9776160" cy="6858000"/>
            <a:chOff x="-16920" y="0"/>
            <a:chExt cx="9776160" cy="6858000"/>
          </a:xfrm>
        </p:grpSpPr>
        <p:grpSp>
          <p:nvGrpSpPr>
            <p:cNvPr id="85" name=""/>
            <p:cNvGrpSpPr/>
            <p:nvPr/>
          </p:nvGrpSpPr>
          <p:grpSpPr>
            <a:xfrm>
              <a:off x="5896080" y="31680"/>
              <a:ext cx="3863160" cy="6174720"/>
              <a:chOff x="5896080" y="31680"/>
              <a:chExt cx="3863160" cy="6174720"/>
            </a:xfrm>
          </p:grpSpPr>
          <p:sp>
            <p:nvSpPr>
              <p:cNvPr id="86" name=""/>
              <p:cNvSpPr/>
              <p:nvPr/>
            </p:nvSpPr>
            <p:spPr>
              <a:xfrm flipV="1" rot="11970000">
                <a:off x="7139520" y="346320"/>
                <a:ext cx="2291760" cy="235764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8044200" y="1957680"/>
                <a:ext cx="98172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397640" y="2594880"/>
                <a:ext cx="47592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868160" y="673920"/>
                <a:ext cx="42120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753680" y="2644560"/>
                <a:ext cx="17712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746120" y="1240560"/>
                <a:ext cx="20592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6425280" y="2936160"/>
                <a:ext cx="5670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6720" y="3106800"/>
              <a:ext cx="55512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88720" y="2000160"/>
              <a:ext cx="216504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3773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543680" y="4532400"/>
              <a:ext cx="6084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373760" y="4728960"/>
              <a:ext cx="14940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2046600" y="5195880"/>
              <a:ext cx="190512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492080" y="1014480"/>
              <a:ext cx="1072440" cy="1312920"/>
              <a:chOff x="4492080" y="1014480"/>
              <a:chExt cx="1072440" cy="1312920"/>
            </a:xfrm>
          </p:grpSpPr>
          <p:sp>
            <p:nvSpPr>
              <p:cNvPr id="100" name=""/>
              <p:cNvSpPr/>
              <p:nvPr/>
            </p:nvSpPr>
            <p:spPr>
              <a:xfrm rot="3220200">
                <a:off x="4962960" y="1045800"/>
                <a:ext cx="285840" cy="4107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5037480" y="1589040"/>
                <a:ext cx="488880" cy="341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457880" y="1982880"/>
                <a:ext cx="511200" cy="1738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6112440" y="283680"/>
              <a:ext cx="962640" cy="862920"/>
              <a:chOff x="6112440" y="283680"/>
              <a:chExt cx="962640" cy="862920"/>
            </a:xfrm>
          </p:grpSpPr>
          <p:sp>
            <p:nvSpPr>
              <p:cNvPr id="104" name=""/>
              <p:cNvSpPr/>
              <p:nvPr/>
            </p:nvSpPr>
            <p:spPr>
              <a:xfrm rot="14908200">
                <a:off x="6237720" y="795960"/>
                <a:ext cx="178560" cy="3913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6197400" y="473760"/>
                <a:ext cx="306000" cy="3250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779160" y="380160"/>
                <a:ext cx="320040" cy="165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1053720" y="5276160"/>
              <a:ext cx="1109880" cy="860760"/>
              <a:chOff x="1053720" y="5276160"/>
              <a:chExt cx="1109880" cy="860760"/>
            </a:xfrm>
          </p:grpSpPr>
          <p:sp>
            <p:nvSpPr>
              <p:cNvPr id="108" name=""/>
              <p:cNvSpPr/>
              <p:nvPr/>
            </p:nvSpPr>
            <p:spPr>
              <a:xfrm rot="8524800">
                <a:off x="1827720" y="5536080"/>
                <a:ext cx="27252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272960" y="5771160"/>
                <a:ext cx="4662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1041120" y="5412600"/>
                <a:ext cx="48744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403560" y="420120"/>
              <a:ext cx="1802160" cy="1155960"/>
              <a:chOff x="403560" y="420120"/>
              <a:chExt cx="1802160" cy="1155960"/>
            </a:xfrm>
          </p:grpSpPr>
          <p:sp>
            <p:nvSpPr>
              <p:cNvPr id="112" name=""/>
              <p:cNvSpPr/>
              <p:nvPr/>
            </p:nvSpPr>
            <p:spPr>
              <a:xfrm flipH="1" rot="4107000">
                <a:off x="1694520" y="1016640"/>
                <a:ext cx="356040" cy="575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124640" y="551880"/>
                <a:ext cx="609120" cy="478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314640" y="1100520"/>
                <a:ext cx="636840" cy="243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8008920" y="3687480"/>
              <a:ext cx="1249200" cy="1629000"/>
              <a:chOff x="8008920" y="3687480"/>
              <a:chExt cx="1249200" cy="1629000"/>
            </a:xfrm>
          </p:grpSpPr>
          <p:sp>
            <p:nvSpPr>
              <p:cNvPr id="116" name=""/>
              <p:cNvSpPr/>
              <p:nvPr/>
            </p:nvSpPr>
            <p:spPr>
              <a:xfrm flipH="1" rot="10015800">
                <a:off x="8063280" y="4748760"/>
                <a:ext cx="38556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8556120" y="4435200"/>
                <a:ext cx="66024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8238600" y="3762360"/>
                <a:ext cx="68976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2092680" y="3240"/>
              <a:ext cx="148212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710160" y="160560"/>
              <a:ext cx="117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434040" y="1362240"/>
              <a:ext cx="567360" cy="44064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824280" y="1281960"/>
              <a:ext cx="21168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756520" y="0"/>
              <a:ext cx="2131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736080" y="1963800"/>
              <a:ext cx="6757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6192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3D33-9C41-4A76-86F6-F934C4FB9BF3}"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660400" y="596880"/>
            <a:ext cx="670860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7" name="PlaceHolder 2"/>
          <p:cNvSpPr>
            <a:spLocks noGrp="1"/>
          </p:cNvSpPr>
          <p:nvPr>
            <p:ph type="body"/>
          </p:nvPr>
        </p:nvSpPr>
        <p:spPr>
          <a:xfrm>
            <a:off x="495000" y="1905120"/>
            <a:ext cx="8915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8" name="PlaceHolder 3"/>
          <p:cNvSpPr>
            <a:spLocks noGrp="1"/>
          </p:cNvSpPr>
          <p:nvPr>
            <p:ph type="dt" idx="7"/>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4"/>
          <p:cNvSpPr>
            <a:spLocks noGrp="1"/>
          </p:cNvSpPr>
          <p:nvPr>
            <p:ph type="ftr" idx="8"/>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0" name="PlaceHolder 5"/>
          <p:cNvSpPr>
            <a:spLocks noGrp="1"/>
          </p:cNvSpPr>
          <p:nvPr>
            <p:ph type="sldNum" idx="9"/>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D8A4-C73E-4367-B8F5-E2F34531AD3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1996920"/>
            <a:ext cx="842004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8" name=""/>
          <p:cNvSpPr/>
          <p:nvPr/>
        </p:nvSpPr>
        <p:spPr>
          <a:xfrm>
            <a:off x="30960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PlaceHolder 2"/>
          <p:cNvSpPr>
            <a:spLocks noGrp="1"/>
          </p:cNvSpPr>
          <p:nvPr>
            <p:ph type="ftr" idx="10"/>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0" name="PlaceHolder 3"/>
          <p:cNvSpPr>
            <a:spLocks noGrp="1"/>
          </p:cNvSpPr>
          <p:nvPr>
            <p:ph type="sldNum" idx="11"/>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2481-B7A4-4FF5-8C59-0242AA59BB2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1" name="PlaceHolder 4"/>
          <p:cNvSpPr>
            <a:spLocks noGrp="1"/>
          </p:cNvSpPr>
          <p:nvPr>
            <p:ph type="dt" idx="12"/>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47680" y="456840"/>
            <a:ext cx="9245520" cy="1676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ckholm World Water Week</a:t>
            </a:r>
            <a:br>
              <a:rPr sz="1800"/>
            </a:br>
            <a:r>
              <a:rPr b="0" lang="en-US" sz="1800" spc="-1" strike="noStrike">
                <a:solidFill>
                  <a:srgbClr val="ffffff"/>
                </a:solidFill>
                <a:latin typeface="Tahoma"/>
              </a:rPr>
              <a:t> </a:t>
            </a:r>
            <a:r>
              <a:rPr b="0" lang="en-US" sz="2000" spc="-1" strike="noStrike">
                <a:solidFill>
                  <a:srgbClr val="ffffff"/>
                </a:solidFill>
                <a:latin typeface="Tahoma"/>
              </a:rPr>
              <a:t>EU Water Initiative </a:t>
            </a:r>
            <a:r>
              <a:rPr b="0" lang="ro-RO" sz="2000" spc="-1" strike="noStrike">
                <a:solidFill>
                  <a:srgbClr val="ffffff"/>
                </a:solidFill>
                <a:latin typeface="Tahoma"/>
              </a:rPr>
              <a:t> Meeting</a:t>
            </a:r>
            <a:r>
              <a:rPr b="0" lang="en-US" sz="2000" spc="-1" strike="noStrike">
                <a:solidFill>
                  <a:srgbClr val="ffffff"/>
                </a:solidFill>
                <a:latin typeface="Tahoma"/>
              </a:rPr>
              <a:t> </a:t>
            </a:r>
            <a:br>
              <a:rPr sz="2000"/>
            </a:br>
            <a:br>
              <a:rPr sz="2000"/>
            </a:br>
            <a:r>
              <a:rPr b="0" lang="ru-RU" sz="2000" spc="-1" strike="noStrike">
                <a:solidFill>
                  <a:srgbClr val="ffffff"/>
                </a:solidFill>
                <a:latin typeface="Tahoma"/>
              </a:rPr>
              <a:t> </a:t>
            </a:r>
            <a:br>
              <a:rPr sz="1800"/>
            </a:br>
            <a:r>
              <a:rPr b="0" lang="en-US" sz="1800" spc="-1" strike="noStrike">
                <a:solidFill>
                  <a:srgbClr val="ffffff"/>
                </a:solidFill>
                <a:latin typeface="Tahoma"/>
              </a:rPr>
              <a:t>Stockholm, August</a:t>
            </a:r>
            <a:r>
              <a:rPr b="0" lang="ru-RU" sz="3600" spc="-1" strike="noStrike">
                <a:solidFill>
                  <a:srgbClr val="ffffff"/>
                </a:solidFill>
                <a:latin typeface="Tahoma"/>
              </a:rPr>
              <a:t> </a:t>
            </a:r>
            <a:r>
              <a:rPr b="0" lang="en-US" sz="1800" spc="-1" strike="noStrike">
                <a:solidFill>
                  <a:srgbClr val="ffffff"/>
                </a:solidFill>
                <a:latin typeface="Tahoma"/>
              </a:rPr>
              <a:t>20 </a:t>
            </a:r>
            <a:r>
              <a:rPr b="0" lang="ru-RU" sz="1800" spc="-1" strike="noStrike">
                <a:solidFill>
                  <a:srgbClr val="ffffff"/>
                </a:solidFill>
                <a:latin typeface="Tahoma"/>
              </a:rPr>
              <a:t>-2</a:t>
            </a:r>
            <a:r>
              <a:rPr b="0" lang="en-US" sz="1800" spc="-1" strike="noStrike">
                <a:solidFill>
                  <a:srgbClr val="ffffff"/>
                </a:solidFill>
                <a:latin typeface="Tahoma"/>
              </a:rPr>
              <a:t>7</a:t>
            </a:r>
            <a:r>
              <a:rPr b="0" lang="ru-RU" sz="1800" spc="-1" strike="noStrike">
                <a:solidFill>
                  <a:srgbClr val="ffffff"/>
                </a:solidFill>
                <a:latin typeface="Tahoma"/>
              </a:rPr>
              <a:t>  200</a:t>
            </a:r>
            <a:r>
              <a:rPr b="0" lang="en-US" sz="1800" spc="-1" strike="noStrike">
                <a:solidFill>
                  <a:srgbClr val="ffffff"/>
                </a:solidFill>
                <a:latin typeface="Tahoma"/>
              </a:rPr>
              <a:t>6</a:t>
            </a:r>
            <a:r>
              <a:rPr b="0" lang="ru-RU" sz="1800" spc="-1" strike="noStrike">
                <a:solidFill>
                  <a:srgbClr val="ffffff"/>
                </a:solidFill>
                <a:latin typeface="Tahoma"/>
              </a:rPr>
              <a:t> г</a:t>
            </a:r>
            <a:endParaRPr b="0" lang="en-US" sz="1800" spc="-1" strike="noStrike">
              <a:solidFill>
                <a:srgbClr val="ffffff"/>
              </a:solidFill>
              <a:latin typeface="Tahoma"/>
            </a:endParaRPr>
          </a:p>
        </p:txBody>
      </p:sp>
      <p:sp>
        <p:nvSpPr>
          <p:cNvPr id="257" name="PlaceHolder 2"/>
          <p:cNvSpPr>
            <a:spLocks noGrp="1"/>
          </p:cNvSpPr>
          <p:nvPr>
            <p:ph type="subTitle"/>
          </p:nvPr>
        </p:nvSpPr>
        <p:spPr>
          <a:xfrm>
            <a:off x="1320480" y="2514600"/>
            <a:ext cx="7429320" cy="3124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ence of Moldova with development of criteria for the settlement prioritization for improved water supply</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atiana Ivanova</a:t>
            </a: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vaproiect, Moldo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determination of the settlement prioritization</a:t>
            </a:r>
            <a:endParaRPr b="0" lang="en-US" sz="4000" spc="-1" strike="noStrike">
              <a:solidFill>
                <a:srgbClr val="006666"/>
              </a:solidFill>
              <a:latin typeface="Verdana"/>
            </a:endParaRPr>
          </a:p>
        </p:txBody>
      </p:sp>
      <p:sp>
        <p:nvSpPr>
          <p:cNvPr id="259"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a:t>
            </a:r>
            <a:r>
              <a:rPr b="0" lang="ru-RU" sz="2400" spc="-1" strike="noStrike">
                <a:solidFill>
                  <a:srgbClr val="006699"/>
                </a:solidFill>
                <a:latin typeface="Verdana"/>
              </a:rPr>
              <a:t>.</a:t>
            </a:r>
            <a:r>
              <a:rPr b="0" lang="ru-RU" sz="3200" spc="-1" strike="noStrike">
                <a:solidFill>
                  <a:srgbClr val="006699"/>
                </a:solidFill>
                <a:latin typeface="Verdana"/>
              </a:rPr>
              <a:t> </a:t>
            </a:r>
            <a:endParaRPr b="0" lang="en-US" sz="3200" spc="-1" strike="noStrike">
              <a:solidFill>
                <a:srgbClr val="006699"/>
              </a:solidFill>
              <a:latin typeface="Verdana"/>
            </a:endParaRPr>
          </a:p>
          <a:p>
            <a:pPr marL="343080" indent="-343080" algn="just">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s important to remember  that the significance of the criteria can differ depending on the goals and stage of prioritization</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98F4862D-B6E6-4985-9EE0-E36D259387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HE GENERAL CRITERIA HAVE TO INCLUDE THE FOLLOWING PRINCIPLES:</a:t>
            </a:r>
            <a:endParaRPr b="0" lang="en-US" sz="3200" spc="-1" strike="noStrike">
              <a:solidFill>
                <a:srgbClr val="006666"/>
              </a:solidFill>
              <a:latin typeface="Verdana"/>
            </a:endParaRPr>
          </a:p>
        </p:txBody>
      </p:sp>
      <p:sp>
        <p:nvSpPr>
          <p:cNvPr id="261" name="PlaceHolder 2"/>
          <p:cNvSpPr>
            <a:spLocks noGrp="1"/>
          </p:cNvSpPr>
          <p:nvPr>
            <p:ph/>
          </p:nvPr>
        </p:nvSpPr>
        <p:spPr>
          <a:xfrm>
            <a:off x="495000" y="1752480"/>
            <a:ext cx="8915400" cy="457200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how the real necessity in the water supply improvemen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intended investments should have the most social-economical benefi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Show the sustainability of the settlemen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ake into account the technical feasibility and the economy of the suggested investments and exploitation expenses</a:t>
            </a:r>
            <a:r>
              <a:rPr b="0" lang="ru-RU" sz="2800" spc="-1" strike="noStrike">
                <a:solidFill>
                  <a:srgbClr val="006699"/>
                </a:solidFill>
                <a:latin typeface="Verdana"/>
              </a:rPr>
              <a:t>. </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391A49A0-E0DF-455F-8FAC-23E29D0400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79160" y="103320"/>
            <a:ext cx="8931240" cy="658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6666"/>
                </a:solidFill>
                <a:latin typeface="Verdana"/>
              </a:rPr>
              <a:t>General Criteria</a:t>
            </a:r>
            <a:endParaRPr b="0" lang="en-US" sz="4000" spc="-1" strike="noStrike">
              <a:solidFill>
                <a:srgbClr val="006666"/>
              </a:solidFill>
              <a:latin typeface="Verdana"/>
            </a:endParaRPr>
          </a:p>
        </p:txBody>
      </p:sp>
      <p:sp>
        <p:nvSpPr>
          <p:cNvPr id="263" name="PlaceHolder 2"/>
          <p:cNvSpPr>
            <a:spLocks noGrp="1"/>
          </p:cNvSpPr>
          <p:nvPr>
            <p:ph/>
          </p:nvPr>
        </p:nvSpPr>
        <p:spPr>
          <a:xfrm>
            <a:off x="495000" y="990360"/>
            <a:ext cx="8915400" cy="5065560"/>
          </a:xfrm>
          <a:prstGeom prst="rect">
            <a:avLst/>
          </a:prstGeom>
          <a:noFill/>
          <a:ln w="0">
            <a:noFill/>
          </a:ln>
        </p:spPr>
        <p:txBody>
          <a:bodyPr lIns="90000" rIns="90000" tIns="46800" bIns="46800" anchor="t">
            <a:normAutofit fontScale="91000"/>
          </a:bodyPr>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ased on said above it is recommended to use the next 4 main criterea</a:t>
            </a:r>
            <a:r>
              <a:rPr b="0" lang="ru-RU" sz="2800" spc="-1" strike="noStrike">
                <a:solidFill>
                  <a:srgbClr val="006699"/>
                </a:solidFill>
                <a:latin typeface="Verdana"/>
              </a:rPr>
              <a:t> :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health of population and risk factors</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cial and economical profit</a:t>
            </a:r>
            <a:r>
              <a:rPr b="1"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ustainability of the system</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echnical possibility</a:t>
            </a:r>
            <a:r>
              <a:rPr b="1" lang="ru-RU" sz="2800" spc="-1" strike="noStrike">
                <a:solidFill>
                  <a:srgbClr val="006699"/>
                </a:solidFill>
                <a:latin typeface="Verdana"/>
              </a:rPr>
              <a:t>.</a:t>
            </a:r>
            <a:r>
              <a:rPr b="0"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selection of settlements is recommended to do by phases</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B2DB987B-8DB3-41E4-82A6-EBA5C671D3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eighting of Criteria</a:t>
            </a:r>
            <a:endParaRPr b="0" lang="en-US" sz="4400" spc="-1" strike="noStrike">
              <a:solidFill>
                <a:srgbClr val="006666"/>
              </a:solidFill>
              <a:latin typeface="Verdana"/>
            </a:endParaRPr>
          </a:p>
        </p:txBody>
      </p:sp>
      <p:sp>
        <p:nvSpPr>
          <p:cNvPr id="265" name="PlaceHolder 2"/>
          <p:cNvSpPr>
            <a:spLocks noGrp="1"/>
          </p:cNvSpPr>
          <p:nvPr>
            <p:ph/>
          </p:nvPr>
        </p:nvSpPr>
        <p:spPr>
          <a:xfrm>
            <a:off x="380520" y="1676520"/>
            <a:ext cx="9068040" cy="167616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s the main criteria and subcriteria on different stages have different values to the prioritization goals, it is recommended to use the specific “ Weighting” of each criteria on each stage of prioritization.</a:t>
            </a:r>
            <a:endParaRPr b="0" lang="en-US" sz="2400" spc="-1" strike="noStrike">
              <a:solidFill>
                <a:srgbClr val="006699"/>
              </a:solidFill>
              <a:latin typeface="Verdana"/>
            </a:endParaRPr>
          </a:p>
        </p:txBody>
      </p:sp>
      <p:graphicFrame>
        <p:nvGraphicFramePr>
          <p:cNvPr id="266" name=""/>
          <p:cNvGraphicFramePr/>
          <p:nvPr/>
        </p:nvGraphicFramePr>
        <p:xfrm>
          <a:off x="380880" y="3352680"/>
          <a:ext cx="9144000" cy="3276360"/>
        </p:xfrm>
        <a:graphic>
          <a:graphicData uri="http://schemas.openxmlformats.org/drawingml/2006/table">
            <a:tbl>
              <a:tblPr/>
              <a:tblGrid>
                <a:gridCol w="1447920"/>
                <a:gridCol w="1828800"/>
                <a:gridCol w="1981080"/>
                <a:gridCol w="1981440"/>
                <a:gridCol w="1904760"/>
              </a:tblGrid>
              <a:tr h="1512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Prioritization stage</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Health of the population and risk factors</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cial and economical benefit</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ustaina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Technical possi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First</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5</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5</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r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3</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2</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8</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7</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4" name="PlaceHolder 3"/>
          <p:cNvSpPr>
            <a:spLocks noGrp="1"/>
          </p:cNvSpPr>
          <p:nvPr>
            <p:ph type="sldNum" idx="3"/>
          </p:nvPr>
        </p:nvSpPr>
        <p:spPr/>
        <p:txBody>
          <a:bodyPr/>
          <a:p>
            <a:fld id="{76F5D359-4A25-4A88-9BBA-F4D9260C58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79160" y="103320"/>
            <a:ext cx="8931240" cy="1039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conclusion</a:t>
            </a: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268" name="PlaceHolder 2"/>
          <p:cNvSpPr>
            <a:spLocks noGrp="1"/>
          </p:cNvSpPr>
          <p:nvPr>
            <p:ph/>
          </p:nvPr>
        </p:nvSpPr>
        <p:spPr>
          <a:xfrm>
            <a:off x="495000" y="1219320"/>
            <a:ext cx="8915400" cy="49528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rom the 50 of the most prioritized settlements there were chosen 6 projects. For each one there were done feasibility study with financial and sociological researche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sed on the results of this feasibility study The Kuwait Fund For Arab Economic Development loan was given to the development of all 6 settlements. It is implemented successfully</a:t>
            </a:r>
            <a:r>
              <a:rPr b="0" lang="ru-RU" sz="2400" spc="-1" strike="noStrike">
                <a:solidFill>
                  <a:srgbClr val="006699"/>
                </a:solidFill>
                <a:latin typeface="Verdana"/>
              </a:rPr>
              <a:t>.</a:t>
            </a: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0B6B083E-463F-413E-8A49-F22C0B8D3D9E}"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8T08:34:34Z</dcterms:created>
  <dc:creator>Bordeniuk</dc:creator>
  <dc:description/>
  <dc:language>en-US</dc:language>
  <cp:lastModifiedBy>Vanessa Celosse</cp:lastModifiedBy>
  <dcterms:modified xsi:type="dcterms:W3CDTF">2006-08-24T13:24:30Z</dcterms:modified>
  <cp:revision>64</cp:revision>
  <dc:subject/>
  <dc:title>Сектор Сельского Водоснабжения и Канализации (ССВК) в странах Восточной Европы, Кавказа и Центральной Азии (ВЕКЦА)-Проблемы и Перспективы Развития Апрель 19е-20е  2005 г Тбилиси, Грузия </dc:title>
</cp:coreProperties>
</file>